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7.gif" ContentType="image/gif"/>
  <Override PartName="/ppt/media/image5.jpeg" ContentType="image/jpeg"/>
  <Override PartName="/ppt/media/image6.png" ContentType="image/png"/>
  <Override PartName="/ppt/media/image14.wmf" ContentType="image/x-wmf"/>
  <Override PartName="/ppt/media/image12.jpeg" ContentType="image/jpeg"/>
  <Override PartName="/ppt/media/image22.wmf" ContentType="image/x-wmf"/>
  <Override PartName="/ppt/media/image11.gif" ContentType="image/gif"/>
  <Override PartName="/ppt/media/image10.jpeg" ContentType="image/jpeg"/>
  <Override PartName="/ppt/media/image13.wmf" ContentType="image/x-wmf"/>
  <Override PartName="/ppt/media/image30.wmf" ContentType="image/x-wmf"/>
  <Override PartName="/ppt/media/image33.jpeg" ContentType="image/jpe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5.wmf" ContentType="image/x-wmf"/>
  <Override PartName="/ppt/media/image9.gif" ContentType="image/gif"/>
  <Override PartName="/ppt/media/image16.jpeg" ContentType="image/jpeg"/>
  <Override PartName="/ppt/media/image32.jpeg" ContentType="image/jpeg"/>
  <Override PartName="/ppt/media/image20.wmf" ContentType="image/x-wmf"/>
  <Override PartName="/ppt/media/image17.png" ContentType="image/png"/>
  <Override PartName="/ppt/media/image23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0F1-9395-44C2-B474-1F8A0052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A04-2C23-4A96-82D1-5094C3B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1799-E696-47D0-BAC2-BAEEA013C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F9DB-4FE9-4B31-B211-3643236E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372-D303-496B-BFEA-D1E2064A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6CE-D9AB-4B88-8729-A3357043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98E-8D06-47C1-9BE5-9EB163D1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D9E-DCD7-4503-9307-7748AA01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00B-DEB7-479F-AF6B-D53D0BA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726-581B-4AB9-86F3-964D5ED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2874-0408-4ECB-83CD-CA3674CC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3275-F3C2-4A60-9057-97EC8F4D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7FE3-2C09-4168-A730-6678C21BF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file:///tmp/home/.config/libreoffice/4/user/gallery/~PP1800.WAV" TargetMode="External"/><Relationship Id="rId4" Type="http://schemas.microsoft.com/office/2007/relationships/media" Target="file:///tmp/home/.config/libreoffice/4/user/gallery/~PP1800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audio" Target="file:///tmp/home/.config/libreoffice/4/user/gallery/~PP3355.WAV" TargetMode="External"/><Relationship Id="rId4" Type="http://schemas.microsoft.com/office/2007/relationships/media" Target="file:///tmp/home/.config/libreoffice/4/user/gallery/~PP3355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audio" Target="file:///tmp/home/.config/libreoffice/4/user/gallery/~PP3858.WAV" TargetMode="External"/><Relationship Id="rId7" Type="http://schemas.microsoft.com/office/2007/relationships/media" Target="file:///tmp/home/.config/libreoffice/4/user/gallery/~PP3858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file:///tmp/home/.config/libreoffice/4/user/gallery/~PP2313.WAV" TargetMode="External"/><Relationship Id="rId3" Type="http://schemas.microsoft.com/office/2007/relationships/media" Target="file:///tmp/home/.config/libreoffice/4/user/gallery/~PP2313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audio" Target="file:///tmp/home/.config/libreoffice/4/user/gallery/~PP1670.WAV" TargetMode="External"/><Relationship Id="rId7" Type="http://schemas.microsoft.com/office/2007/relationships/media" Target="file:///tmp/home/.config/libreoffice/4/user/gallery/~PP1670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file:///tmp/home/.config/libreoffice/4/user/gallery/~PP2777.WAV" TargetMode="External"/><Relationship Id="rId3" Type="http://schemas.microsoft.com/office/2007/relationships/media" Target="file:///tmp/home/.config/libreoffice/4/user/gallery/~PP2777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file:///tmp/home/.config/libreoffice/4/user/gallery/~PP3009.WAV" TargetMode="External"/><Relationship Id="rId3" Type="http://schemas.microsoft.com/office/2007/relationships/media" Target="file:///tmp/home/.config/libreoffice/4/user/gallery/~PP3009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368.WAV" TargetMode="External"/><Relationship Id="rId3" Type="http://schemas.microsoft.com/office/2007/relationships/media" Target="file:///tmp/home/.config/libreoffice/4/user/gallery/~PP368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850.WAV" TargetMode="External"/><Relationship Id="rId3" Type="http://schemas.microsoft.com/office/2007/relationships/media" Target="file:///tmp/home/.config/libreoffice/4/user/gallery/~PP850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3775.WAV" TargetMode="External"/><Relationship Id="rId3" Type="http://schemas.microsoft.com/office/2007/relationships/media" Target="file:///tmp/home/.config/libreoffice/4/user/gallery/~PP3775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file:///tmp/home/.config/libreoffice/4/user/gallery/~PP2908.WAV" TargetMode="External"/><Relationship Id="rId6" Type="http://schemas.microsoft.com/office/2007/relationships/media" Target="file:///tmp/home/.config/libreoffice/4/user/gallery/~PP2908.WAV" TargetMode="Externa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~PP318.WAV" TargetMode="External"/><Relationship Id="rId4" Type="http://schemas.microsoft.com/office/2007/relationships/media" Target="file:///tmp/home/.config/libreoffice/4/user/gallery/~PP318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audio" Target="file:///tmp/home/.config/libreoffice/4/user/gallery/~PP2856.WAV" TargetMode="External"/><Relationship Id="rId4" Type="http://schemas.microsoft.com/office/2007/relationships/media" Target="file:///tmp/home/.config/libreoffice/4/user/gallery/~PP2856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audio" Target="file:///tmp/home/.config/libreoffice/4/user/gallery/~PP1593.WAV" TargetMode="External"/><Relationship Id="rId4" Type="http://schemas.microsoft.com/office/2007/relationships/media" Target="file:///tmp/home/.config/libreoffice/4/user/gallery/~PP1593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1841.WAV" TargetMode="External"/><Relationship Id="rId3" Type="http://schemas.microsoft.com/office/2007/relationships/media" Target="file:///tmp/home/.config/libreoffice/4/user/gallery/~PP1841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 warst du in den Fer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ristin She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am Strand Fussball gespiel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327672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609588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draussen gelauf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2958840" cy="151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2511360" cy="2349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100000">
              <a:srgbClr val="5e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m Restaurant Milch getrunk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368720" cy="183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2330280" cy="2079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943600" y="3733920"/>
            <a:ext cx="2347920" cy="2209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62120" y="1523880"/>
            <a:ext cx="2165400" cy="2140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904680" cy="905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n den Abend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usic"/>
          <p:cNvSpPr/>
          <p:nvPr/>
        </p:nvSpPr>
        <p:spPr>
          <a:xfrm>
            <a:off x="1295280" y="2666880"/>
            <a:ext cx="1809720" cy="18097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81480" y="2971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Ich habe viele klamotten gekauf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58000" y="3124080"/>
            <a:ext cx="1893960" cy="1484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4648320"/>
            <a:ext cx="2043360" cy="1633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191120" y="1600200"/>
            <a:ext cx="2000160" cy="2008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990720" y="3809880"/>
            <a:ext cx="2149200" cy="17622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38080" y="1371600"/>
            <a:ext cx="2362320" cy="1882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8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5e75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Es hat mir gefallen. Es war Phantat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Du sollst nach South Carolina ge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5520" y="60480"/>
            <a:ext cx="8531280" cy="6797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505320"/>
            <a:ext cx="3962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ch war in South Caroli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Hilton Hotel geblieb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am Strand in Myrtle Strand, South Carolin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5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38280" y="2292480"/>
            <a:ext cx="6019920" cy="4565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Ich habe im Restaurant gegess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0280" y="914400"/>
            <a:ext cx="1238400" cy="9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38080" y="2514600"/>
            <a:ext cx="1238400" cy="94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19320" y="533412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schwom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4819680" cy="2446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Arial"/>
              </a:rPr>
              <a:t>Ich bin zur plantage gegan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2816280" cy="2625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Patentante besuch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3419640" cy="3233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454720" y="1752480"/>
            <a:ext cx="240984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am See fotografie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9:10Z</dcterms:created>
  <dc:creator>CUSD220</dc:creator>
  <dc:description/>
  <dc:language>en-US</dc:language>
  <cp:lastModifiedBy>CUSD220</cp:lastModifiedBy>
  <dcterms:modified xsi:type="dcterms:W3CDTF">2011-11-15T17:48:58Z</dcterms:modified>
  <cp:revision>6</cp:revision>
  <dc:subject/>
  <dc:title>Wo warst du in den Ferien?</dc:title>
</cp:coreProperties>
</file>